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1EC6-0850-4CF4-8E09-BCA0C8844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936B-0220-4887-AA3B-F977D868C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A652-A73A-40BC-A1B2-B0ABB886F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7044-E761-4AC3-8E2B-24A135194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D1BD5-67E9-480E-930F-13E0750B1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A50EE-647B-4D75-A80F-E8079B586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CF8B8-B4B7-4048-803D-2985764BA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7C6A9-26DD-4208-9E0A-0B9398A0F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FAA5B-D2A3-4AB1-9AF1-AD048D30C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CF648-91D1-4DFB-8BB9-3356A9DE6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87521-2AD3-4434-9082-D28925066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607C-F340-4D77-AE90-CF32CAD9E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6427F-99FB-49D7-B5BC-975D2D82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1965C-0435-4E94-8112-BA369A6B4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28EC8-75F0-485A-8F9C-7E876714D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476FF-6455-4521-85D9-00C100367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72247-0BA9-4836-B477-9DF08D080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AD17-FEB7-413D-8A0E-24D3F2CF3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800F-E271-464F-A375-BD0D044BC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E27B-9E7F-46AF-9350-7442BAC3D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FD62-10E3-48A8-B639-219A0575E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E777-720E-430B-B6EC-DF9E1D418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5F21-C875-47FD-B1D5-B4A5271D6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427E-258C-4987-BB06-5F1693AB4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C8A75-B566-4FE0-9CFD-476E4BF5435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81C48-993E-48B0-8F5A-C4604F6D3BD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Enhancing memor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strateg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erceptual Priming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ceptual priming is the phenomenon that prior perception of an object leads to easier subsequent perception of the same subjec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main; Eng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onceptual priming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ceptual priming exposes students to concepts via advance organisers such as introducing vocabulary, objectives and/or questions prior to reading or presentation of the new inform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main; Eng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Encoding Practic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coding practice consists of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ading of chapters and/or textbook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-reading of chapters and/or textbook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utlining or mind mapping inform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nemonic strategi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above are ranked according to effectivenes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Retrieval practic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trieval practice means engaging in activities that call for the recall of stored inform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ffective strategies a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king ques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actice tes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udying with other stud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ents asking students ques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osing and completing self-tes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Retrieval cu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trieval cues make it easier for students to access information in their long term memory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y must be present when learning takes place in order to be effectiv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trieval cues inclu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ltiple choice tes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sts with word bank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ceptual categori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sual images or wor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Graphic organiser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DEECD website (good for graphic organiser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Inspiration (sophisticated, very good for Mindmap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Interwrite (good graphic organisers 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Freemind (on Year 7 Notebooks alread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Visio (good for business and technolog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Mnemonic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thod of loc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rrative chain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g wor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rosti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rony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Mnemonics- Method of Loci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this technique the subject memorizes the layout of some building, or the arrangement of shops on a stree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remember a set of items the subject literally 'walks' through these loci and commits an item to each one by forming an imag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trieval of items is achieved by 'walking' through the loc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Mnemonics- narrative chaining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related items are linked to each other by forming a s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technique adds organisation and meaningfulness to otherwise meaningless mate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lpful when you want to remember information in a particular ord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Mnemonics- Acronym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first letter of each “idea” is formed into a memorable senten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amples ar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GBDF- Every good boy deserves fru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"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F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irst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P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lace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O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ten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akes the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rophy. "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-Frontal, Parietal, Occipital, Temporal, are The lobes of the brai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"Good Physicists Have Studied Under Very Fine Teachers“  -Maxwell relations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Understanding and memor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tting in class and understanding what is being presented is not enough to perform well in a tes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Mnemonics- acronym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Using the first letter of a sequence of words to produce a pronouncable wor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Some examples a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ANZA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EFTP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NA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ummar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ive students time to process information into their Long Term Memor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dentify prior knowledg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volve all students’ sens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 multiple, varied activiti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me the stud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 mnemoni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Understanding and memor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udents need to engage in an activity to enable them to remember what they understan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mains; Engage &amp; Elabor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Activation of prior knowled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achers need to activate students’ prior knowledge about the new top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do you know about….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do you want to know about…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se questions create a “hook” to hang the new information 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mains; Engage &amp; Elabor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ypes of Rehearsal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intenance rehearsal consists of using a a memory strategy that keeps information in the short term memory. An example is repeating a telephone number over and over agai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ypes of rehearsal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aborative rehearsal consists of making associations between the new information and what one already knows. This can be done b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king notes on a chapter while rea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eating a mnemonic dev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aborative rehearsal is more effective in moving information to long term memor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Multiple Instructional method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ing multiple senses enhances memory and learn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ing spatial and linear formats consolidates ide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viding students with a number of ways to recode information helps with long term memory storage and retriev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mains; Explain &amp; Explo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nterferenc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udents are presented with new information every 45 to 60 minut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formation presented in the first class will interfere with information presented in the second clas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ocks of 90 minutes enhance  consolidation of new inform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main; Explo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Episodic and semantic memor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pisodic memory stores events about the event or episodes in our liv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mantic memory is the memory of knowledge and concep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effectiveness of both these memory systems varies so teachers should use multiple, varied activities, such as projects, field trips and group wor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main; Expla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4T23:23:47Z</dcterms:created>
  <dc:creator>c</dc:creator>
  <dc:description/>
  <dc:language>en-US</dc:language>
  <cp:lastModifiedBy>c</cp:lastModifiedBy>
  <dcterms:modified xsi:type="dcterms:W3CDTF">2010-02-17T22:09:16Z</dcterms:modified>
  <cp:revision>14</cp:revision>
  <dc:subject/>
  <dc:title>Enhancing memory</dc:title>
</cp:coreProperties>
</file>